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CB1DE-B361-4762-BA7A-550A5A9AB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CA5DB-FB61-4D14-92FE-61EE34CA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A16F0-1388-4ABE-BA64-79D38A413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4B21D-E351-4229-983A-E5ADD9DC1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15FD6-C54E-4E3B-9C84-1D6715C95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A987D-121A-4377-A551-D4FE61D9B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E212-9E90-4AB0-8CC7-96938C57C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A40DB-4BFD-4A9F-AE24-5FC1E0D15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66DF2-A9F0-4D03-80A1-3CB4A29B3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8E7A-71B3-4552-81ED-9FDC157E9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E7EA6-3298-43FF-9373-E13410C52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89E4-679F-489E-834F-09B100406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528F-7BA9-454B-B7DB-7AA7B35492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7517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2529000" y="3108240"/>
            <a:ext cx="408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ubia and Egyp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4" name=""/>
          <p:cNvSpPr txBox="1"/>
          <p:nvPr/>
        </p:nvSpPr>
        <p:spPr>
          <a:xfrm>
            <a:off x="714240" y="3962520"/>
            <a:ext cx="842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y: Connor Bade and Connor Gr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ff66"/>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Land of the Bow</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ough on our wiki page we said Nubia and Egypt have good relations they still had a lot of fighting between the two civilization. With that came a fight between Nubia and Egypt where Egypt quickly saw how good the archers for Nubia were. This made Egypt want the archers so Egypt bought the some of the archers witch lead Egypt and Nubia to become  frie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3300"/>
                </a:solidFill>
                <a:latin typeface="Arial"/>
              </a:rPr>
              <a:t>Nubian gold</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gest trade from Nubia and Egypt was for gold. Nubia had a lot of gold and Egypt needed it for there pharaohs tombs. Most of the warfare between Nubia and Egypt was most certain over Egypts quest for gold. For all we now there is probably billions of dollars of gold still ou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9933"/>
            </a:gs>
            <a:gs pos="100000">
              <a:srgbClr val="66ff33"/>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raohs of Nubia and Egyp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Taharqa of the twenty fifth dynasty Ruled Egypt and Nubia for twenty six years of form 690 b.c. to 664 b.c. King Taharqa was the son of Piye the first person to Conquer Egy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669900"/>
            </a:gs>
            <a:gs pos="100000">
              <a:srgbClr val="0066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Spearm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gyptian Spearmen where some of the best. They had great spears and were skilled at war. They were another great defense for Egy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z tim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some of the Nubian resources  A. gold B. dirt. C. trees. D. w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skilled warriors that the Nubians are famous for.  A. fish catcher.  B. Tree cutters. C. Archers  D. Boat bui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the Egyptians call the Nubians the Land of the Bow.  A. they liked them.  B. they asked them to make crossbows  C. They had skilled archers.  D. They need some of there Resour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the Nubians Trade with Egypt.  A. No they don’t like Nubia. B. Yes for a long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35:58Z</dcterms:created>
  <dc:creator>Default</dc:creator>
  <dc:description/>
  <dc:language>en-US</dc:language>
  <cp:lastModifiedBy>testacct</cp:lastModifiedBy>
  <dcterms:modified xsi:type="dcterms:W3CDTF">2009-02-18T19:16:15Z</dcterms:modified>
  <cp:revision>9</cp:revision>
  <dc:subject/>
  <dc:title> </dc:title>
</cp:coreProperties>
</file>